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07A3-4D4E-4933-8AE5-87866404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0E5A-0A73-464B-8703-7786419E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CD98-F6DC-4BA3-9D63-10FB95672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7774-4EBA-422D-839A-61FBF178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6F4D-1D4C-4901-96CB-F47BE726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E9BF-96CD-4C0A-824B-C4A92D9B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7F3A-3287-4492-858C-CBDA81AA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DEB7-1694-47F2-89A1-5B466234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19F8-DEC1-4E6F-A2D4-A32387EE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A3E7-9ED0-406D-8091-881F15F5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BE7-422C-46ED-9465-7482722E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8B9F-30F4-4E7B-9960-25983966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46BA-CBBB-43DF-AC0F-531506A05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em Witch T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Aubrey Strickling, Anna Kane, Hannah Rowe, and Becca Dus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Lif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ys will do the outside work like fishing, hunting, and other outdoor activi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i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rls did the inside activities like cooking, sewing, cleaning, and the dish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 were severely punished if they disobe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ies had to plant their own crops, raise their own meat, and build and take care of their own ho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4:56:06Z</dcterms:created>
  <dc:creator>jhlaptop</dc:creator>
  <dc:description/>
  <dc:language>en-US</dc:language>
  <cp:lastModifiedBy>GACS</cp:lastModifiedBy>
  <dcterms:modified xsi:type="dcterms:W3CDTF">2008-10-10T14:37:24Z</dcterms:modified>
  <cp:revision>2</cp:revision>
  <dc:subject/>
  <dc:title>Slide 1</dc:title>
</cp:coreProperties>
</file>